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7DA6-D07E-428B-AF06-CBC6156C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EFF5-77D5-4256-8ABC-0DAA5A8A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890A-D7CC-4A23-8020-E23CB797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2E4B-500E-49B3-AB15-0FE67B487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45CF-E862-40DA-AE42-A380DD0C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8908-E3BF-43B0-BEF8-76CD2C32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F271-3071-4973-977B-279572F7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ECF3-901A-4601-B86A-B0C5F6D4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8777-2796-4A15-AEAC-D114FC68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6DBA-93FD-4C4B-B95F-7D550335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5C78-DE00-4EE1-A380-13580DBC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12EF-9BEC-4A04-9881-4600E80B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5F88-E0E6-4B45-9B64-4C070AEEC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’s lay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: Josh DeGuz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3581280"/>
            <a:ext cx="416232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dimentary r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895480" y="1752480"/>
            <a:ext cx="297180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gneous r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609588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morphic r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46767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te tecto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095880" cy="41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reading bound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41148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cture bound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28576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iding boun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38098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quak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276228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c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36478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4419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892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7:48:56Z</dcterms:created>
  <dc:creator>jdeguzman</dc:creator>
  <dc:description/>
  <dc:language>en-US</dc:language>
  <cp:lastModifiedBy>joshua</cp:lastModifiedBy>
  <dcterms:modified xsi:type="dcterms:W3CDTF">2011-03-18T17:47:22Z</dcterms:modified>
  <cp:revision>5</cp:revision>
  <dc:subject/>
  <dc:title>Earth’s layers </dc:title>
</cp:coreProperties>
</file>